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FEBA-7EC4-4179-9503-67CC6607F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C0C4-35C7-4294-AB5B-3546C2576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B83A-13B3-4BA5-B1EB-B6C520179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2E13-7DCE-49C7-9231-1CEA3A491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446E-865B-4526-8C86-8B6165B0F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4B4F-EEF7-44EC-8CB6-30FCD35B5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99FB-8D47-4CDB-A61C-7FEB0F390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51DA-C021-4147-B0AA-6B9DD2858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4E69-AC90-4284-98A2-FCAC61830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3777-B8DD-409D-9CD7-DA275F410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9A16-FAC6-408E-9DFE-FB4489E0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212A-A1EB-456A-A7D7-49249CE6B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856AA-67E2-4644-BB4F-99C8AD544EC0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revolucion-industrial.wikispaces.com/TAREA+2" TargetMode="External"/><Relationship Id="rId2" Type="http://schemas.openxmlformats.org/officeDocument/2006/relationships/hyperlink" Target="http://revolucion-industrial.wikispaces.com/file/view/MI%20DIARIO%20DE%20APRENDIZAJE.doc/383179572/MI%20DIARIO%20DE%20APRENDIZAJE.doc" TargetMode="External"/><Relationship Id="rId3" Type="http://schemas.openxmlformats.org/officeDocument/2006/relationships/hyperlink" Target="http://revolucion-industrial.wikispaces.com/file/view/Orientaciones%20para%20escribir%20el%20diario.doc/272619276/Orientaciones%20para%20escribir%20el%20diario.doc" TargetMode="External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684360" y="333360"/>
            <a:ext cx="7632720" cy="105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Tarea 2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: Escribo un diario personal poniéndome en la piel de un niño o joven que trabajó durante la Revolución Industri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324000" y="1125360"/>
            <a:ext cx="8569080" cy="2037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Actividad 1: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eo estos textos y expreso mis sentimient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Actividad 2: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onozco diferentes diari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Actividad 3: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lto en el camino: Escribimos en el </a:t>
            </a: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diario de aprendizaje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Actividad 4: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scribo mi diario. </a:t>
            </a: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Orientaciones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y herramienta de evalua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Actividad 5: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eo en voz alta el diario. Orientacion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6" descr="http://4.bp.blogspot.com/-9hfsPu9f5Eo/UBUXMGmGKEI/AAAAAAAACYI/DKr_WEMkNMo/s1600/article-1312764-0B389E7D000005DC-978_468x618.jpg"/>
          <p:cNvPicPr/>
          <p:nvPr/>
        </p:nvPicPr>
        <p:blipFill>
          <a:blip r:embed="rId4"/>
          <a:stretch/>
        </p:blipFill>
        <p:spPr>
          <a:xfrm>
            <a:off x="5651640" y="3573360"/>
            <a:ext cx="2487600" cy="3284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http://2.bp.blogspot.com/-3MUxj3vrRB0/T1dRSTTVCnI/AAAAAAAAAS8/2W0xwib3qZE/s640/1910_hilandera_North_Pownal_Cotton.jpg"/>
          <p:cNvPicPr/>
          <p:nvPr/>
        </p:nvPicPr>
        <p:blipFill>
          <a:blip r:embed="rId5"/>
          <a:stretch/>
        </p:blipFill>
        <p:spPr>
          <a:xfrm>
            <a:off x="324000" y="3500280"/>
            <a:ext cx="2874960" cy="3357720"/>
          </a:xfrm>
          <a:prstGeom prst="rect">
            <a:avLst/>
          </a:prstGeom>
          <a:ln w="0">
            <a:noFill/>
          </a:ln>
        </p:spPr>
      </p:pic>
      <p:sp>
        <p:nvSpPr>
          <p:cNvPr id="45" name="5 Rectángulo"/>
          <p:cNvSpPr/>
          <p:nvPr/>
        </p:nvSpPr>
        <p:spPr>
          <a:xfrm>
            <a:off x="2286000" y="3105000"/>
            <a:ext cx="53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Diarios  2º ESO Instituto de Astrabudua (Bizkai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19:14:42Z</dcterms:created>
  <dc:creator>Mari</dc:creator>
  <dc:description/>
  <dc:language>en-US</dc:language>
  <cp:lastModifiedBy>Mari</cp:lastModifiedBy>
  <dcterms:modified xsi:type="dcterms:W3CDTF">2015-04-21T19:21:58Z</dcterms:modified>
  <cp:revision>1</cp:revision>
  <dc:subject/>
  <dc:title>Diapositiva 1</dc:title>
</cp:coreProperties>
</file>